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3.jpeg" ContentType="image/jpeg"/>
  <Override PartName="/ppt/media/image2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dt" idx="8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9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0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33775-8659-400D-B364-2EC69A3D2E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B6666-2579-4977-8A43-2B67E640C0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мы и госпо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этой презентации – еще раз подчеркнуть, насколько активное участие в МЭК может принести пользу национальной и региональной политике, контролю качества поступающей электрической и электронной продукции, а также участия компаний в глобальных цепочках создания сто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прежде я вкратце приведу новую информацию о МЭК и тенденциях в мировой торговле электротехническими устройств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7E0D8-54E0-4512-8093-4B91580B114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44061-FD34-4A92-A000-79083B4638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защиты граждан и инфраструктуры от некачественной продукции необходима инфраструктура контроля качества. Системы оценки соответствия МЭК вместе с международными стандартами МЭК позволяют странам испытывать и сертифицировать продукцию, таким образом гарантируя ее безопасность, надежность и работоспособность должным образ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BEE82-9383-4858-A12E-2A9E9FBC39DD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9610A-7A36-44EC-A8A7-C7199B55D2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ЭК управляет четырьмя системами оценки соответствия, которые проверяют безопасность и производительность товаров, используемых в домах, офисах, медицинских учреждениях, производствах, взрывоопасных средах, электронике, а также для выработки всех видов энер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EDB1B-783F-45B3-8E08-B95CBB80AB5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ECE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на во всем мире в качестве системы для проверки безопасности электрического и неэлектрического оборудования, используемого во взрывоопасных средах. Она была одобрена Организацией Объединенных Наций через Европейскую экономическую комиссию (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E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рекомендуемой модели для проверки соответствия международным стандартам проектирования, монтажа, технического обслуживания и ремонта, а также компетентности персонала, работающего во взрывоопасных средах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щая нормативная база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UNE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ля оборудования, используемого в средах со взрывоопасной атмосфер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редназначена для широкого внедрения регулятор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54FF9-03DD-414A-878C-239640C4FC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3C9BC-8156-4756-9A57-05F435D567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м слайде представлен обзор участия стран МГС в Системах оценки соответствия МЭК. В октябре 2016 года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ECRE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тила первые сертификаты, и мы надеемся, что она также привлечет интерес стран МГ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512D5-AAC4-4602-BB92-5D2F1F47AAD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04A4C-B06A-4F57-83DE-1646B3BB73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ам трудно принять международные стандарты МЭК в связи с тем, как вы считаете, что некоторые особые потребности вашей страны не были приняты во внимание, вам необходимо выразить свое мнение. Являясь членом МЭК, вы можете сообщать о национальных потребностях в процессе разработки стандартов.  Это помогает улучшить стандарты для многих пользователей. А также облегчает принятие в вашей стране международного, а не национального или регионального стандарта.  Принятие не только происходит быстрее и обходится дешевле: оно также обеспечивает вам больше гибкости. Например, государственные и частные лица будут иметь более широкий выбор международных поставщиков и, как правило, более выгодные цены: они получат продукты достойного и предсказуемого качества, способные корректно работать друг с друг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ы то ни было, если конкретные потребности не могут быть учтены в международном стандарте МЭК, каждый член МЭК имеет право модифицировать стандарт для принятия. Подобные модификации, разумеется, всегда лучше сводить к миниму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65F61-46A3-443E-A678-3BE408FD5FC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F87B9-4EDB-4076-957E-44504461D1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ом, международные стандарты МЭК вместе с оценкой соответствия обеспечивают уверенность в том, что продукция соответствует согласованным на международном уровне критериям безопасности, качества и производительности, а так же облегчают взаимодей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ы помогают достичь безопасности и повысить эффек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ы предлагают основу для современного технического регулирования и законов, которые будут дольше оставаться современн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ними вы выполняете соглашение ВТО ТБТ, содействуете импорту товаров, а в будущем еще и экспор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МЭК обеспечивает основу для вашей национальной программы контроля ка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 времени изобретать колесо: используйте международные стандарты МЭК и играйте активную роль в их развитии на благо вашей региональной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96AD6-39BF-408B-B2E6-7E7FEA3613F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45C1D-B41F-46AC-B01C-F790603C11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деюсь, что этот обзор был полезен. Благодарю за внима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65E6B-5956-4963-B034-56AC764649B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1CDC4-CA6D-4FA5-8680-2F442D3DAD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244D5-B532-415F-874D-8CE6A5F1CFE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ружество МЭК объединяет 170 стран, которые представляют более 99% мирового населения и производства электроэнергии. Благодаря глобальному охвату и актуальности, МЭК полностью удовлетворяет требованиям Всемирной торговой организации (ВТО). Большинство стран мира признают устройства, созданные в соответствии с международными стандартами МЭ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20 000 экспертов задействованы в 203 технических област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блиотека МЭК содержит около 10 000 публик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ыре системы оценки соответствия МЭК выдали более 1 миллиона сертификатов. Они необходимы для проверки безопасности и надежности миллиардов электрических и электронных устройств, используемых в домах, офисах, медицинских учреждениях, производствах, взрывоопасных средах и для выработки электроэнер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82462-81E8-4701-999E-193255418A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A3EC8-75B2-47D8-A65D-9D6E899A45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годня электрические и электронные устройства представляют собой самую большую категорию товаров, продаваемых во всем мире. По состоянию на конец 2015 года они составляли 17,7% от объема торговли, согласно статистическим данным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 Co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ие, если не большинство, из этих электрических и электронных товаров, зависят от международных стандартов МЭК. Они также незаменимы для любой страны, которая хочет участвовать во все более фрагментированных производственных процессах в цепочках создания стоимости, охватывающих весь ми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5ACEF-477B-4AD9-A933-3E35FF661B1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11583-3738-42A2-A19D-8BCF3834A2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тношении электротехнологии, региональные стандарты часто создают препятствие для участия малых и средних компаний в глобальных цепочках создания стоимости. Как правило, такие компании не располагают финансовыми средствами для создания одного продукта для регионального рынка и другого для экспор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е стандарты также могут быть препятствием в торговых соглашениях. В зависимости от размера рынка, они могут привести к затратам на адаптацию, которые ограничивают выбор продукта и ведут к росту ц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 стандарты МЭК разрабатываются в соответствии с принципами, изложенными в ТБТ ВТО, и подчиняются ряду строгих процедур. Они основаны на объективной информации и знаниях, отвечают потребностям и проблемам всех соответствующих заинтересованных сторон, включая государственные орган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A65E2-E8C3-44DD-B206-311FB43C1D4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91753-3E32-459B-BD98-41F8DBA20D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шение ВТО по ТБТ рекомендует странам-членам по возможности использовать международные, а не национальные или региональные стандар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международных стандартов МЭК помогает уменьшить барьеры для торговли в области электрического и электронного оборудования и сист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B3905-1D54-438B-A98E-12BD8F54E85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330BC-BA4B-4863-8ACA-7A5259AE7F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 стандарты также служат поддержкой национальной политики в области энергетики, сохранности и безопас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 стандартов обеспечение качества и управление рисками было бы невозможно. Эти стандарты включают в себя аспекты безопасности, оценки рисков, оценки качества и производительности и составляют основу для испытаний и сертификации. Хорошая нормативная практика поощряет ссылки на стандарты для обеспечения соблюдения зак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 стандарты могут способствовать передаче технологий. Они также позволяют регуляторам оценивать технологические решения и успешно тиражировать их с минимальными усил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 стандарты МЭК, наряду с испытаниями и сертификацией, позволяют странам-членам МГС сокращать число барьеров в торговле. Они также помогают контролировать продукты низкого качества и контрафактную продукцию и снижать их социальное воздействие с точки зрения несчастных случаев и пож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7CAC9-D1EF-4BC4-A992-E9FA0CF99C3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4D2D1-826A-4185-BD1C-C198EA8144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укция низкого качества и контрафактная продукции обходятся обществу дорого, даже если первоначальная закупочная цена для пользователя невыс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материалов более низкого качества и нестандартизированной проводки в подобной продукции часто приводит к несчастным случаям и пожарам. Например, печи низкого качества обычно имеют слабую изоляцию. Корпус становится чрезвычайно горячим, что  может привести к ожогам третьей степени, особенно у детей. Неисправная проводка может привести к поражению электрическим то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о оценкам, низкокачественные бытовые приборы и несоответствующая электропроводка являются причиной приблизительно 40% пожаров в ряде стран. Принятие и обеспечение соблюдения Стандартов МЭК, как на нормативном уровне, так и посредством испытаний, является важным инструментом для борьбы с продукцией низкого качества и контрафактной продук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2C5C1-54CD-420A-9830-A0BB8A402A3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21F12-1166-40F8-B947-779EB3973F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имо финансового и социального урона, низкокачественные продукты создают ряд дополнительных пробл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о недолгий срок их службы приводит к увеличению количества опасных отходов, которые необходимо утилизирова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часто покупать новые приборы снижает располагаемый доход потребителей, а также их способность инвестировать в другие области. Низкое качество продукции в сегменте светодиодов, солнечных ламп или фотоэлектрических элементов может подорвать доверие к новым технологиям и поставить под угрозу энергосберегающие устро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ADD3F-1CE1-4CC6-9A6E-7D14195F071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42A1-71DD-472D-95DA-B40FA10205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1B68-CFA5-45A1-A353-B9508DFF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40BB-5F50-411B-BAE1-35BF4FAD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CBE0-77DB-4500-B480-8A3DC666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5C72-9E92-4292-B436-B6735110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4439160"/>
            <a:ext cx="80629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4A7A0-49EF-4A67-83B9-EB515B1A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BF8D-A929-4F5C-AD20-73E9DCB5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C5E2-43E3-4FFC-943E-FEEF1FFC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327A-1E96-4324-B0FD-DAF8E963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F796-05CC-445C-B649-9C457FF3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F409-C9AD-47F8-9E24-8656D2E2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0B25-BF8C-4519-96F1-B307BB39D6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4EC43-BC0A-4C51-82EC-6768BB6C61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56682-D89E-4653-9712-E4505A2A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3E987-C2BA-49CA-BF75-FE8117EA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7A02F-2D90-4C42-A224-6D47C9A8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B4432-B592-434A-8C1A-600A643A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8000" y="4439160"/>
            <a:ext cx="80629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AD4E4-4FB5-43BC-9CF1-45F7588C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1EA52-4E7E-4017-A8EC-4EF2B7AC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AFF83-9BEA-4FAD-8F11-F9189307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1A4AD-602C-441D-BA8E-1A7C7FEA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251D9-CC10-496B-AC74-96BAA358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2525B-A1EC-4188-B783-ED79CBBD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D9177-F487-4317-A0EF-39BB9FAA54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CC14-55EF-4337-B356-E6A446B567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3714-7FC4-4841-A8FA-44500073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6B29-938F-42F8-B872-60F96BFA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CC05-445A-48E9-9BD4-61761D08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8CAA-5761-43DC-8699-F64DB6A6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68000" y="4439160"/>
            <a:ext cx="80629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6F7A-FCBA-4A0A-8C58-57B86D41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EECF-825B-4A92-BF23-C4D30461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D2C9-0FAF-4D72-99E0-618F352B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E376-044A-48C0-8CFC-B9020EB3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662F-1495-4ED2-933A-EBD4F782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CBF8-A2C0-4D26-AFEA-2702F6D6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48A0-A4C2-4ADE-B6DC-FFB1EE221A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251625-9356-40A5-AB4F-DF117F677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F2C585-1BF3-471C-9446-AB3973EA96C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1EB626-3508-44CE-AC98-E31D36CAA41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A61C77-D470-436E-B398-CD432EE851F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47E96-EBEA-4865-8C83-3B945EE8AD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000" y="4439160"/>
            <a:ext cx="80629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D5F332-C1AD-4A72-B273-34A52328F90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4DDC41-6D0A-4B8E-9C1F-6855DC5B5BA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15B80C-B953-4C44-922A-F78492485F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FA9788-EE81-48A7-9DF3-E8BB8DB5FB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8A118F-5D89-4BC4-9156-B621000740F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CB854B-7EE5-4782-B5A9-8505BF63B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4439160"/>
            <a:ext cx="80629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A3C9D-815A-4C98-BA50-0191D36481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68000" y="4439160"/>
            <a:ext cx="80629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8366040" y="6021360"/>
            <a:ext cx="741600" cy="647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50760" y="5454720"/>
            <a:ext cx="9215280" cy="143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4"/>
          <a:stretch/>
        </p:blipFill>
        <p:spPr>
          <a:xfrm>
            <a:off x="7962840" y="5518080"/>
            <a:ext cx="1146240" cy="13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8366040" y="6021360"/>
            <a:ext cx="741600" cy="647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440" y="188640"/>
            <a:ext cx="82789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440" y="1599840"/>
            <a:ext cx="8278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6110280" y="635616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5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484280" y="6356520"/>
            <a:ext cx="4327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442800" y="6356160"/>
            <a:ext cx="790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E02E3B3-E213-44C9-B79C-1E3650A0A6D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8366040" y="6021360"/>
            <a:ext cx="741600" cy="647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92160" y="101520"/>
            <a:ext cx="8961480" cy="66643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3"/>
          </p:nvPr>
        </p:nvSpPr>
        <p:spPr>
          <a:xfrm>
            <a:off x="6110280" y="635616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5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484280" y="6356520"/>
            <a:ext cx="4327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4"/>
          </p:nvPr>
        </p:nvSpPr>
        <p:spPr>
          <a:xfrm>
            <a:off x="442800" y="6356160"/>
            <a:ext cx="790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C38687D-C4D5-4409-B027-77058345803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2"/>
          <a:stretch/>
        </p:blipFill>
        <p:spPr>
          <a:xfrm>
            <a:off x="8366040" y="6021360"/>
            <a:ext cx="741600" cy="647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5"/>
          </p:nvPr>
        </p:nvSpPr>
        <p:spPr>
          <a:xfrm>
            <a:off x="6110280" y="635616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5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484280" y="6356520"/>
            <a:ext cx="4327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6"/>
          </p:nvPr>
        </p:nvSpPr>
        <p:spPr>
          <a:xfrm>
            <a:off x="442800" y="6356160"/>
            <a:ext cx="790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DF157E1-40C6-46F7-9A3C-54659B4CC23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body"/>
          </p:nvPr>
        </p:nvSpPr>
        <p:spPr>
          <a:xfrm>
            <a:off x="395280" y="1522080"/>
            <a:ext cx="40305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1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2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3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4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5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6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789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8366040" y="6021360"/>
            <a:ext cx="741600" cy="647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42800" y="1601280"/>
            <a:ext cx="4065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1"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2"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3"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4"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5"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6"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42440" y="187200"/>
            <a:ext cx="82789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7"/>
          </p:nvPr>
        </p:nvSpPr>
        <p:spPr>
          <a:xfrm>
            <a:off x="442800" y="6356160"/>
            <a:ext cx="790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821533F-C7B7-46CE-9EF8-FD3EFD1F1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2"/>
          <a:stretch/>
        </p:blipFill>
        <p:spPr>
          <a:xfrm>
            <a:off x="8366040" y="6094440"/>
            <a:ext cx="741600" cy="647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6480" y="-27000"/>
            <a:ext cx="9131040" cy="6885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514160"/>
            <a:ext cx="822816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4"/>
          <a:stretch/>
        </p:blipFill>
        <p:spPr>
          <a:xfrm>
            <a:off x="8366040" y="6021360"/>
            <a:ext cx="74160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6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-144360" y="-206280"/>
            <a:ext cx="9323280" cy="56498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640" y="3750840"/>
            <a:ext cx="907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Членство в МЭК: преимущества для государственной п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литики и торгов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816360" y="5445000"/>
            <a:ext cx="4608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Г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0 мая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у, Азербайдж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44360" y="5445000"/>
            <a:ext cx="39243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ьрих Спиндлер (Ulrich Spind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це президент МЭК и председатель Бюро по оценке соответствия (C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439560" y="1522440"/>
            <a:ext cx="442152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Защи</a:t>
            </a:r>
            <a:r>
              <a:rPr b="1" lang="ru-RU" sz="2800" spc="-1" strike="noStrike">
                <a:solidFill>
                  <a:srgbClr val="595959"/>
                </a:solidFill>
                <a:latin typeface="Arial"/>
              </a:rPr>
              <a:t>та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 граждан и инфраструктур</a:t>
            </a:r>
            <a:r>
              <a:rPr b="1" lang="ru-RU" sz="2800" spc="-1" strike="noStrike">
                <a:solidFill>
                  <a:srgbClr val="595959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Международные стандарты </a:t>
            </a:r>
            <a:r>
              <a:rPr b="1" lang="ru-RU" sz="2800" spc="-1" strike="noStrike">
                <a:solidFill>
                  <a:srgbClr val="595959"/>
                </a:solidFill>
                <a:latin typeface="Arial"/>
              </a:rPr>
              <a:t>МЭК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 + испытания и серт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=  подтверждение надежности и безопасности продукции и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442800" y="18720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Arial"/>
              </a:rPr>
              <a:t>Инфраструктура контроля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5651640" y="1413000"/>
            <a:ext cx="422424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611280" y="1557360"/>
            <a:ext cx="6048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ECE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– дома, офисы, медицинские учреждения, производственные помещения, общественные места, интеллектуальные сети (Smart Grid), электротранспортные средства (E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ECE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– все необходимые проверки для взрывоопасной индуст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ECQ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– электронные компоненты и менеджмент качества поставщ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ECR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– возобновляемые источники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95280" y="217440"/>
            <a:ext cx="82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595959"/>
                </a:solidFill>
                <a:latin typeface="Arial"/>
              </a:rPr>
              <a:t>4 системы оценки соответств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7020000" y="1544760"/>
            <a:ext cx="1825560" cy="779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2"/>
          <a:stretch/>
        </p:blipFill>
        <p:spPr>
          <a:xfrm>
            <a:off x="6954840" y="2735280"/>
            <a:ext cx="1828800" cy="781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3"/>
          <a:stretch/>
        </p:blipFill>
        <p:spPr>
          <a:xfrm>
            <a:off x="7020000" y="4005360"/>
            <a:ext cx="1752480" cy="747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4"/>
          <a:stretch/>
        </p:blipFill>
        <p:spPr>
          <a:xfrm>
            <a:off x="7051680" y="5068800"/>
            <a:ext cx="882720" cy="7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3924360" y="1023840"/>
            <a:ext cx="5757840" cy="5834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5" descr="IEC logo RVB"/>
          <p:cNvPicPr/>
          <p:nvPr/>
        </p:nvPicPr>
        <p:blipFill>
          <a:blip r:embed="rId2"/>
          <a:stretch/>
        </p:blipFill>
        <p:spPr>
          <a:xfrm>
            <a:off x="8172360" y="6000840"/>
            <a:ext cx="649440" cy="64908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"/>
          <p:cNvSpPr/>
          <p:nvPr/>
        </p:nvSpPr>
        <p:spPr>
          <a:xfrm>
            <a:off x="395280" y="1125360"/>
            <a:ext cx="504036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ирно признанная система сертификации для взрывоопасных сре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луживание и ремо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етенция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C 31  разрабатывает стандарты для электрического и неэлектрического оборудования, например, оборудования для шах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itle 3"/>
          <p:cNvSpPr/>
          <p:nvPr/>
        </p:nvSpPr>
        <p:spPr>
          <a:xfrm>
            <a:off x="395280" y="187200"/>
            <a:ext cx="87487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комендовано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чере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395280" y="217440"/>
            <a:ext cx="82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595959"/>
                </a:solidFill>
                <a:latin typeface="Arial"/>
              </a:rPr>
              <a:t>Участие в </a:t>
            </a:r>
            <a:r>
              <a:rPr b="1" lang="ru-RU" sz="3800" spc="-1" strike="noStrike">
                <a:solidFill>
                  <a:srgbClr val="595959"/>
                </a:solidFill>
                <a:latin typeface="Arial"/>
              </a:rPr>
              <a:t>С</a:t>
            </a:r>
            <a:r>
              <a:rPr b="1" lang="en-US" sz="3800" spc="-1" strike="noStrike">
                <a:solidFill>
                  <a:srgbClr val="595959"/>
                </a:solidFill>
                <a:latin typeface="Arial"/>
              </a:rPr>
              <a:t>истемах оценки соответствия МЭ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2747880" y="1424160"/>
            <a:ext cx="1752840" cy="747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4788000" y="1424160"/>
            <a:ext cx="1828800" cy="7808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3"/>
          <a:stretch/>
        </p:blipFill>
        <p:spPr>
          <a:xfrm>
            <a:off x="6877080" y="1424160"/>
            <a:ext cx="1752480" cy="7477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684360" y="2833560"/>
            <a:ext cx="20635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ларус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22440" y="3532320"/>
            <a:ext cx="24732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оссийская федерац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693720" y="4849920"/>
            <a:ext cx="20638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4"/>
          <a:srcRect l="0" t="16895" r="0" b="0"/>
          <a:stretch/>
        </p:blipFill>
        <p:spPr>
          <a:xfrm>
            <a:off x="3112920" y="2622600"/>
            <a:ext cx="924120" cy="806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"/>
          <p:cNvPicPr/>
          <p:nvPr/>
        </p:nvPicPr>
        <p:blipFill>
          <a:blip r:embed="rId5"/>
          <a:srcRect l="0" t="16895" r="0" b="0"/>
          <a:stretch/>
        </p:blipFill>
        <p:spPr>
          <a:xfrm>
            <a:off x="3203640" y="3573360"/>
            <a:ext cx="923760" cy="806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"/>
          <p:cNvPicPr/>
          <p:nvPr/>
        </p:nvPicPr>
        <p:blipFill>
          <a:blip r:embed="rId6"/>
          <a:srcRect l="0" t="16895" r="0" b="0"/>
          <a:stretch/>
        </p:blipFill>
        <p:spPr>
          <a:xfrm>
            <a:off x="3203640" y="4565520"/>
            <a:ext cx="9237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1" descr=""/>
          <p:cNvPicPr/>
          <p:nvPr/>
        </p:nvPicPr>
        <p:blipFill>
          <a:blip r:embed="rId7"/>
          <a:srcRect l="0" t="16895" r="0" b="0"/>
          <a:stretch/>
        </p:blipFill>
        <p:spPr>
          <a:xfrm>
            <a:off x="5087880" y="3557520"/>
            <a:ext cx="924120" cy="806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"/>
          <p:cNvPicPr/>
          <p:nvPr/>
        </p:nvPicPr>
        <p:blipFill>
          <a:blip r:embed="rId8"/>
          <a:srcRect l="0" t="16895" r="0" b="0"/>
          <a:stretch/>
        </p:blipFill>
        <p:spPr>
          <a:xfrm>
            <a:off x="7176960" y="3573360"/>
            <a:ext cx="924120" cy="8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439560" y="1522440"/>
            <a:ext cx="492444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чет локальных потребностей = улучшенные стандар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Содействие принятию на национальном уров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Расширенный выбор, лучшие 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Члены могут модифицировать стандарты МЭК и продав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324000" y="19692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95959"/>
                </a:solidFill>
                <a:latin typeface="Arial"/>
              </a:rPr>
              <a:t>Сделайте Ваш голос услышан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4236840" cy="27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539640" y="1125360"/>
            <a:ext cx="80931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Содействие функциональной совместимости продуктов и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Обеспечение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Повышение эффе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Подробная основа для технических регламентов и законов – шагайте в ногу со времнем, </a:t>
            </a:r>
            <a:r>
              <a:rPr b="1" lang="ru-RU" sz="2800" spc="-1" strike="noStrike">
                <a:solidFill>
                  <a:srgbClr val="595959"/>
                </a:solidFill>
                <a:latin typeface="Arial"/>
              </a:rPr>
              <a:t>получите 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в свое распоряжени</a:t>
            </a:r>
            <a:r>
              <a:rPr b="1" lang="ru-RU" sz="2800" spc="-1" strike="noStrike">
                <a:solidFill>
                  <a:srgbClr val="595959"/>
                </a:solidFill>
                <a:latin typeface="Arial"/>
              </a:rPr>
              <a:t>е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 новейши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58585a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Содействие торговле (ВТО ТБ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58585a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Формирование основы программ контроля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395280" y="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Преимущества для органов, ответственных за формирование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" descr=""/>
          <p:cNvPicPr/>
          <p:nvPr/>
        </p:nvPicPr>
        <p:blipFill>
          <a:blip r:embed="rId1"/>
          <a:stretch/>
        </p:blipFill>
        <p:spPr>
          <a:xfrm>
            <a:off x="-144360" y="-206280"/>
            <a:ext cx="9323280" cy="56498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7640" y="3750840"/>
            <a:ext cx="907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Членство в МЭК: преимущества для государственной п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литики и торгов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816360" y="5445000"/>
            <a:ext cx="4608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Г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0 мая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у, Азербайдж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44360" y="5445000"/>
            <a:ext cx="39243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ьрих Спиндлер (Ulrich Spind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це президент МЭК и председатель Бюро оценки соответствия (C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" descr=""/>
          <p:cNvPicPr/>
          <p:nvPr/>
        </p:nvPicPr>
        <p:blipFill>
          <a:blip r:embed="rId1"/>
          <a:stretch/>
        </p:blipFill>
        <p:spPr>
          <a:xfrm>
            <a:off x="-69840" y="0"/>
            <a:ext cx="9345600" cy="70293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2"/>
          <p:cNvSpPr/>
          <p:nvPr/>
        </p:nvSpPr>
        <p:spPr>
          <a:xfrm>
            <a:off x="442800" y="6356520"/>
            <a:ext cx="7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645F6DE-3A80-48F4-AF98-7AA2E46F5BC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-82440" y="3284640"/>
            <a:ext cx="914400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"/>
              </a:rPr>
              <a:t>Глобальный охват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"/>
              </a:rPr>
              <a:t>170 стр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99.1% мирового нас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99.2% производства электроэнер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8170920" y="6000840"/>
            <a:ext cx="649080" cy="64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660680" y="2311560"/>
            <a:ext cx="7507080" cy="4573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5" descr="IEC logo RVB"/>
          <p:cNvPicPr/>
          <p:nvPr/>
        </p:nvPicPr>
        <p:blipFill>
          <a:blip r:embed="rId2"/>
          <a:stretch/>
        </p:blipFill>
        <p:spPr>
          <a:xfrm>
            <a:off x="8172360" y="6000840"/>
            <a:ext cx="649440" cy="649080"/>
          </a:xfrm>
          <a:prstGeom prst="rect">
            <a:avLst/>
          </a:prstGeom>
          <a:ln w="0">
            <a:noFill/>
          </a:ln>
        </p:spPr>
      </p:pic>
      <p:sp>
        <p:nvSpPr>
          <p:cNvPr id="267" name="Title 3"/>
          <p:cNvSpPr/>
          <p:nvPr/>
        </p:nvSpPr>
        <p:spPr>
          <a:xfrm>
            <a:off x="442800" y="44784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мирная платформа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 000 экспе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3 ТК/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000 Международных станда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Системы оценки соотве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324000" y="1368360"/>
            <a:ext cx="46432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Мировая торговля электронными и электрическими устройствами</a:t>
            </a:r>
            <a:r>
              <a:rPr b="1" lang="ru-RU" sz="2600" spc="-1" strike="noStrike">
                <a:solidFill>
                  <a:srgbClr val="595959"/>
                </a:solidFill>
                <a:latin typeface="Arial"/>
              </a:rPr>
              <a:t>: </a:t>
            </a: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 17.7% </a:t>
            </a:r>
            <a:br>
              <a:rPr sz="2600"/>
            </a:b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(2,893 триллиона</a:t>
            </a:r>
            <a:r>
              <a:rPr b="1" lang="ru-RU" sz="26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USD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Чистая энергия: 11.1% </a:t>
            </a:r>
            <a:br>
              <a:rPr sz="2600"/>
            </a:b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(1,822 триллиона</a:t>
            </a:r>
            <a:r>
              <a:rPr b="1" lang="ru-RU" sz="26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US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Транспортные средства: 8.0% (1,314 триллиона</a:t>
            </a:r>
            <a:r>
              <a:rPr b="1" lang="ru-RU" sz="26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US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*не включая осветительные приборы, фотоприборы, </a:t>
            </a:r>
            <a:r>
              <a:rPr b="1" lang="ru-RU" sz="1400" spc="-1" strike="noStrike">
                <a:solidFill>
                  <a:srgbClr val="595959"/>
                </a:solidFill>
                <a:latin typeface="Arial"/>
              </a:rPr>
              <a:t>авиацию</a:t>
            </a: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 и т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95280" y="115920"/>
            <a:ext cx="87487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95959"/>
                </a:solidFill>
                <a:latin typeface="Arial"/>
              </a:rPr>
              <a:t>Крупнейший </a:t>
            </a:r>
            <a:r>
              <a:rPr b="1" lang="en-US" sz="3600" spc="-1" strike="noStrike">
                <a:solidFill>
                  <a:srgbClr val="595959"/>
                </a:solidFill>
                <a:latin typeface="Arial"/>
              </a:rPr>
              <a:t>товарный оборот в ми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4962600" y="1606680"/>
            <a:ext cx="4181400" cy="36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324000" y="836640"/>
            <a:ext cx="43923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Препятствие для 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мелких, малых и средних предприятий 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ММСП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в отношении экспорта и участия в глобальных цепочках оценки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Помеха для двусторонних торговых соглашений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Расходы на адаптацию,  ограниченный выбор продукции,  более высокие цены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539640" y="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Arial"/>
              </a:rPr>
              <a:t>Региональные станд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933800" y="1700280"/>
            <a:ext cx="428796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2"/>
          <p:cNvSpPr/>
          <p:nvPr/>
        </p:nvSpPr>
        <p:spPr>
          <a:xfrm>
            <a:off x="0" y="260280"/>
            <a:ext cx="917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аны-члены ВТО полагаются на международные стандарты МЭ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8366040" y="6021360"/>
            <a:ext cx="7416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" descr=""/>
          <p:cNvPicPr/>
          <p:nvPr/>
        </p:nvPicPr>
        <p:blipFill>
          <a:blip r:embed="rId1"/>
          <a:stretch/>
        </p:blipFill>
        <p:spPr>
          <a:xfrm>
            <a:off x="5203800" y="1844640"/>
            <a:ext cx="3960720" cy="32068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"/>
          <p:cNvSpPr/>
          <p:nvPr/>
        </p:nvSpPr>
        <p:spPr>
          <a:xfrm>
            <a:off x="439560" y="1079640"/>
            <a:ext cx="4853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Международные стандар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Составляют 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основу для испытаний и серт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Обеспечивают соблюдение зак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Сокращают барьеры для торго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Содействуют передаче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Помогают 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в борьбе с некачественной и контрафактной продук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42800" y="18720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95959"/>
                </a:solidFill>
                <a:latin typeface="Arial"/>
              </a:rPr>
              <a:t>Надежная </a:t>
            </a:r>
            <a:r>
              <a:rPr b="1" lang="en-US" sz="3600" spc="-1" strike="noStrike">
                <a:solidFill>
                  <a:srgbClr val="595959"/>
                </a:solidFill>
                <a:latin typeface="Arial"/>
              </a:rPr>
              <a:t>нормативная прак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439560" y="1700280"/>
            <a:ext cx="44215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Стоит дешево, но обходится обществу дор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Материалы низкого качества: несчастные случаи, ожоги, пожар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ы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, поражение электрическим т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Международные стандарты МЭК + тестирование / сертификация = важный инстру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442800" y="18720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Arial"/>
              </a:rPr>
              <a:t>Некачественная и контрафактная проду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5440320" y="1773360"/>
            <a:ext cx="3702240" cy="37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439560" y="1522440"/>
            <a:ext cx="442152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Короткий срок службы = больше опасных от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Частая замена = снижение располагаемого до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Падение доверия к новым технологиям (светодиоды, солнечные лампы, фотоэлектрические системы и т. д.): Опасность для программ повышения энергоэффе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442800" y="18720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95959"/>
                </a:solidFill>
                <a:latin typeface="Arial"/>
              </a:rPr>
              <a:t>Увеличение </a:t>
            </a:r>
            <a:r>
              <a:rPr b="1" lang="en-US" sz="3600" spc="-1" strike="noStrike">
                <a:solidFill>
                  <a:srgbClr val="595959"/>
                </a:solidFill>
                <a:latin typeface="Arial"/>
              </a:rPr>
              <a:t>отходов, падение дове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4997520" y="1773360"/>
            <a:ext cx="4146480" cy="275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inette Pitteloud</dc:creator>
  <dc:description/>
  <dc:language>en-US</dc:language>
  <cp:lastModifiedBy>Antoinette Pitteloud</cp:lastModifiedBy>
  <dcterms:modified xsi:type="dcterms:W3CDTF">2017-05-16T08:18:57Z</dcterms:modified>
  <cp:revision>36</cp:revision>
  <dc:subject/>
  <dc:title>Членство в МЭК: преимущества для государственной пллитики и торговли</dc:title>
</cp:coreProperties>
</file>